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.jpeg" ContentType="image/jpeg"/>
  <Override PartName="/ppt/media/image23.png" ContentType="image/png"/>
  <Override PartName="/ppt/media/image6.png" ContentType="image/png"/>
  <Override PartName="/ppt/media/image29.png" ContentType="image/png"/>
  <Override PartName="/ppt/media/image32.wmf" ContentType="image/x-wmf"/>
  <Override PartName="/ppt/media/image12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19.gif" ContentType="image/gif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60BF-C368-44F6-BFA6-F13B0AB3E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4A5F-8D27-4CAC-91BA-307611310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0DB-5B95-452A-9741-CCDBB88A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EE20-3C8A-4AEA-A641-550FD289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B003-39A4-424A-A1DF-8D13D404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5EBE-1509-4055-91B2-D482241E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BDE38-E4C5-4895-A5B8-C1F951F4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4388-7AFB-4338-A691-E2AA5768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4C34D-8985-4369-A630-B935E5EC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30E49-4642-4341-925A-C887FA29E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A7FA-A36A-4265-A7D4-A25159E9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867F-4E15-4483-AAA2-B3BE0E4A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970C-F61E-443D-9700-9A2D11561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3F42-2905-4771-8673-7B2724167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4C90-4241-4BEB-BDA1-6A4DFF85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B3C0A-3302-4FBF-82D3-36854A29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510B-A56F-49A8-8700-018BDDD80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A55897-D47B-48CE-A988-82EAC74A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CFEF0-60BC-4117-90A4-DE318D12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F8E1A-3FDE-4212-9D70-C64FF84B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CF620-3C30-4BF1-8B33-37132B396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E67EF-3C31-4CB3-9BA2-15D49148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0FED-768A-49BA-89B2-52FFE264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88C5-5AB0-4F3C-9CF0-42F6FD98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EFE0E-8233-47C5-8343-0825934E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0BB2F-4DC8-4924-94D1-7B2EF6F9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5C55D-2C42-4C8C-B895-EAD0B65A3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58A93-1CF8-435D-86CD-F8639F1F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BBCC4-73FF-4313-8738-D2098EA2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0B2EF-11D5-4F2C-B950-4196878D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4D0D2-1D52-432E-96AC-C13BDC5AF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DEB1D-5AC6-47EB-AE48-244E5544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DB996-74E8-4218-B4D7-6145B572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8BC-8D4D-4E91-B909-60A583D0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DD6D-F40B-4ECC-8B6D-8DFEFAC6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C369F-05BD-42A2-B789-804AF6BB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A4A3-CD4B-4162-934C-3AAF3D31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2B7A-A86F-4F5F-A5C3-552E465B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8203A-732F-4355-8397-B0C732D4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7405-0DC4-4673-9628-650CBFB1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BEE3F5-B7A8-4624-A33B-2DA1C379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3D6137-A739-46A3-9F42-0CEDB473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18F18-98BB-4721-AC61-DF78AC2E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6DB0-54FD-41A5-87E0-0C6BDD8D4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CF52-CB6A-4214-82F7-15E5142C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8D0E6-07A5-4ACC-89CC-4F1D06FC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67354-A07B-475C-BDDE-6E097FE5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BA6C28-6540-4CB5-A387-37C341B2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EAEC2-48FC-47F4-A264-F23A08832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94DE8-5EB5-49F6-ADC2-7ABEFD7E9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4B139-E6A2-4368-8EA1-D36EE2D8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6D3CF7-0096-4B59-845E-E11EC7CF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9DB988-D829-4ABD-840B-012B3AC8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92DB0-DC23-48D2-BF03-BDDDA390D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96E31-E2F1-4BF1-B0A3-D33550F86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0D48-8393-43C5-9BE9-23CD4383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87197-E0E6-4F9A-AB66-CD52CE5C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768F-6DE9-4F55-962F-8AB6C6359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FA4D-C41B-433B-85C8-46FDB85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7E8-DFCC-4A67-93E0-5AC91E84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0C2B-4D9E-4084-A64D-AD99421E6EE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02E1-6558-41F1-A5B9-3F760E0A4028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1A8C-606F-431E-A0AE-79D85A0CFFF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8846-F5B7-4243-879B-45CB15C1676D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5C5C-185D-4C96-B5F6-CEF434138218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9.gif"/><Relationship Id="rId6" Type="http://schemas.openxmlformats.org/officeDocument/2006/relationships/image" Target="../media/image19.gif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WordArt 4"/>
          <p:cNvSpPr txBox="1"/>
          <p:nvPr/>
        </p:nvSpPr>
        <p:spPr>
          <a:xfrm>
            <a:off x="838080" y="0"/>
            <a:ext cx="7162920" cy="685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Comic Sans MS"/>
              </a:rPr>
              <a:t>Тема: мягкий знак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Comic Sans MS"/>
              </a:rPr>
              <a:t>в конц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Comic Sans MS"/>
              </a:rPr>
              <a:t>имен существительны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f0"/>
                </a:solidFill>
                <a:latin typeface="Comic Sans MS"/>
              </a:rPr>
              <a:t>после шипящих.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0f0"/>
              </a:solidFill>
              <a:latin typeface="Comic Sans MS"/>
              <a:ea typeface="Comic Sans MS"/>
            </a:endParaRPr>
          </a:p>
        </p:txBody>
      </p:sp>
      <p:pic>
        <p:nvPicPr>
          <p:cNvPr id="221" name="Прямоугольник 4" descr=""/>
          <p:cNvPicPr/>
          <p:nvPr/>
        </p:nvPicPr>
        <p:blipFill>
          <a:blip r:embed="rId1"/>
          <a:stretch/>
        </p:blipFill>
        <p:spPr>
          <a:xfrm>
            <a:off x="426960" y="1712880"/>
            <a:ext cx="884160" cy="1573200"/>
          </a:xfrm>
          <a:prstGeom prst="rect">
            <a:avLst/>
          </a:prstGeom>
          <a:ln w="0">
            <a:noFill/>
          </a:ln>
        </p:spPr>
      </p:pic>
      <p:pic>
        <p:nvPicPr>
          <p:cNvPr id="222" name="Прямоугольник 5" descr=""/>
          <p:cNvPicPr/>
          <p:nvPr/>
        </p:nvPicPr>
        <p:blipFill>
          <a:blip r:embed="rId2"/>
          <a:stretch/>
        </p:blipFill>
        <p:spPr>
          <a:xfrm>
            <a:off x="7785000" y="1573200"/>
            <a:ext cx="88272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4108320" cy="2146320"/>
          </a:xfrm>
          <a:prstGeom prst="rect">
            <a:avLst/>
          </a:prstGeom>
          <a:ln w="0">
            <a:noFill/>
          </a:ln>
        </p:spPr>
      </p:pic>
      <p:sp>
        <p:nvSpPr>
          <p:cNvPr id="279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80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81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5742000" cy="2139840"/>
          </a:xfrm>
          <a:prstGeom prst="rect">
            <a:avLst/>
          </a:prstGeom>
          <a:ln w="0">
            <a:noFill/>
          </a:ln>
        </p:spPr>
      </p:pic>
      <p:sp>
        <p:nvSpPr>
          <p:cNvPr id="284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85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86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4224240" cy="2127240"/>
          </a:xfrm>
          <a:prstGeom prst="rect">
            <a:avLst/>
          </a:prstGeom>
          <a:ln w="0">
            <a:noFill/>
          </a:ln>
        </p:spPr>
      </p:pic>
      <p:sp>
        <p:nvSpPr>
          <p:cNvPr id="289" name="WordArt 20"/>
          <p:cNvSpPr txBox="1"/>
          <p:nvPr/>
        </p:nvSpPr>
        <p:spPr>
          <a:xfrm>
            <a:off x="5500800" y="78588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90" name="WordArt 24"/>
          <p:cNvSpPr txBox="1"/>
          <p:nvPr/>
        </p:nvSpPr>
        <p:spPr>
          <a:xfrm>
            <a:off x="6000840" y="407196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91" name="Line 25"/>
          <p:cNvSpPr/>
          <p:nvPr/>
        </p:nvSpPr>
        <p:spPr>
          <a:xfrm flipH="1">
            <a:off x="5500440" y="407196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Управляющая кнопка: в конец 6">
            <a:hlinkClick r:id="" action="ppaction://hlinkshowjump?jump=lastslide"/>
          </p:cNvPr>
          <p:cNvSpPr/>
          <p:nvPr/>
        </p:nvSpPr>
        <p:spPr>
          <a:xfrm>
            <a:off x="8215200" y="6286680"/>
            <a:ext cx="928800" cy="571320"/>
          </a:xfrm>
          <a:custGeom>
            <a:avLst/>
            <a:gdLst>
              <a:gd name="textAreaLeft" fmla="*/ 36720 w 928800"/>
              <a:gd name="textAreaRight" fmla="*/ 892080 w 9288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5107" h="21600">
                <a:moveTo>
                  <a:pt x="0" y="0"/>
                </a:moveTo>
                <a:lnTo>
                  <a:pt x="35107" y="0"/>
                </a:lnTo>
                <a:lnTo>
                  <a:pt x="35107" y="21600"/>
                </a:lnTo>
                <a:lnTo>
                  <a:pt x="0" y="21600"/>
                </a:lnTo>
                <a:close/>
              </a:path>
              <a:path fill="lightenLess" w="35107" h="21600">
                <a:moveTo>
                  <a:pt x="0" y="0"/>
                </a:moveTo>
                <a:lnTo>
                  <a:pt x="35107" y="0"/>
                </a:lnTo>
                <a:lnTo>
                  <a:pt x="33707" y="1400"/>
                </a:lnTo>
                <a:lnTo>
                  <a:pt x="1400" y="1400"/>
                </a:lnTo>
                <a:close/>
              </a:path>
              <a:path fill="darken" w="35107" h="21600">
                <a:moveTo>
                  <a:pt x="35107" y="0"/>
                </a:moveTo>
                <a:lnTo>
                  <a:pt x="35107" y="21600"/>
                </a:lnTo>
                <a:lnTo>
                  <a:pt x="33707" y="20200"/>
                </a:lnTo>
                <a:lnTo>
                  <a:pt x="33707" y="1400"/>
                </a:lnTo>
                <a:close/>
              </a:path>
              <a:path fill="darkenLess" w="35107" h="21600">
                <a:moveTo>
                  <a:pt x="35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7" y="20200"/>
                </a:lnTo>
                <a:close/>
              </a:path>
              <a:path fill="lighten" w="35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7" h="21600">
                <a:moveTo>
                  <a:pt x="21052" y="10800"/>
                </a:moveTo>
                <a:lnTo>
                  <a:pt x="10547" y="17806"/>
                </a:lnTo>
                <a:lnTo>
                  <a:pt x="10547" y="3794"/>
                </a:lnTo>
                <a:close/>
              </a:path>
              <a:path fill="darken" w="35107" h="21600">
                <a:moveTo>
                  <a:pt x="22897" y="3794"/>
                </a:moveTo>
                <a:lnTo>
                  <a:pt x="22897" y="17806"/>
                </a:lnTo>
                <a:lnTo>
                  <a:pt x="24560" y="17806"/>
                </a:lnTo>
                <a:lnTo>
                  <a:pt x="24560" y="3794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WordArt 4"/>
          <p:cNvSpPr txBox="1"/>
          <p:nvPr/>
        </p:nvSpPr>
        <p:spPr>
          <a:xfrm>
            <a:off x="1500120" y="714240"/>
            <a:ext cx="478656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4" name="AutoShape 5">
            <a:hlinkClick r:id="" action="ppaction://hlinkshowjump?jump=previousslide"/>
          </p:cNvPr>
          <p:cNvSpPr/>
          <p:nvPr/>
        </p:nvSpPr>
        <p:spPr>
          <a:xfrm>
            <a:off x="7991640" y="6237360"/>
            <a:ext cx="1152360" cy="620640"/>
          </a:xfrm>
          <a:custGeom>
            <a:avLst/>
            <a:gdLst>
              <a:gd name="textAreaLeft" fmla="*/ 39960 w 1152360"/>
              <a:gd name="textAreaRight" fmla="*/ 1112400 w 115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0095" h="21600">
                <a:moveTo>
                  <a:pt x="0" y="0"/>
                </a:moveTo>
                <a:lnTo>
                  <a:pt x="40095" y="0"/>
                </a:lnTo>
                <a:lnTo>
                  <a:pt x="40095" y="21600"/>
                </a:lnTo>
                <a:lnTo>
                  <a:pt x="0" y="21600"/>
                </a:lnTo>
                <a:close/>
              </a:path>
              <a:path fill="lightenLess" w="40095" h="21600">
                <a:moveTo>
                  <a:pt x="0" y="0"/>
                </a:moveTo>
                <a:lnTo>
                  <a:pt x="40095" y="0"/>
                </a:lnTo>
                <a:lnTo>
                  <a:pt x="38695" y="1400"/>
                </a:lnTo>
                <a:lnTo>
                  <a:pt x="1400" y="1400"/>
                </a:lnTo>
                <a:close/>
              </a:path>
              <a:path fill="darken" w="40095" h="21600">
                <a:moveTo>
                  <a:pt x="40095" y="0"/>
                </a:moveTo>
                <a:lnTo>
                  <a:pt x="40095" y="21600"/>
                </a:lnTo>
                <a:lnTo>
                  <a:pt x="38695" y="20200"/>
                </a:lnTo>
                <a:lnTo>
                  <a:pt x="38695" y="1400"/>
                </a:lnTo>
                <a:close/>
              </a:path>
              <a:path fill="darkenLess" w="40095" h="21600">
                <a:moveTo>
                  <a:pt x="40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5" y="20200"/>
                </a:lnTo>
                <a:close/>
              </a:path>
              <a:path fill="lighten" w="40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5" h="21600">
                <a:moveTo>
                  <a:pt x="13041" y="7493"/>
                </a:moveTo>
                <a:lnTo>
                  <a:pt x="16548" y="7493"/>
                </a:lnTo>
                <a:lnTo>
                  <a:pt x="16548" y="12828"/>
                </a:lnTo>
                <a:cubicBezTo>
                  <a:pt x="16548" y="13751"/>
                  <a:pt x="17349" y="14482"/>
                  <a:pt x="18385" y="14482"/>
                </a:cubicBezTo>
                <a:lnTo>
                  <a:pt x="20047" y="14482"/>
                </a:lnTo>
                <a:cubicBezTo>
                  <a:pt x="21083" y="14482"/>
                  <a:pt x="21884" y="13751"/>
                  <a:pt x="21884" y="12828"/>
                </a:cubicBezTo>
                <a:lnTo>
                  <a:pt x="21884" y="7493"/>
                </a:lnTo>
                <a:lnTo>
                  <a:pt x="20047" y="7493"/>
                </a:lnTo>
                <a:lnTo>
                  <a:pt x="23555" y="3985"/>
                </a:lnTo>
                <a:lnTo>
                  <a:pt x="27228" y="7493"/>
                </a:lnTo>
                <a:lnTo>
                  <a:pt x="25391" y="7493"/>
                </a:lnTo>
                <a:lnTo>
                  <a:pt x="25391" y="12828"/>
                </a:lnTo>
                <a:cubicBezTo>
                  <a:pt x="25391" y="15596"/>
                  <a:pt x="22815" y="18155"/>
                  <a:pt x="20047" y="18155"/>
                </a:cubicBezTo>
                <a:lnTo>
                  <a:pt x="18385" y="18155"/>
                </a:lnTo>
                <a:cubicBezTo>
                  <a:pt x="15617" y="18155"/>
                  <a:pt x="13041" y="15596"/>
                  <a:pt x="13041" y="12828"/>
                </a:cubicBezTo>
                <a:close/>
              </a:path>
            </a:pathLst>
          </a:custGeom>
          <a:solidFill>
            <a:srgbClr val="b83d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28" descr="MAGIC"/>
          <p:cNvPicPr/>
          <p:nvPr/>
        </p:nvPicPr>
        <p:blipFill>
          <a:blip r:embed="rId1"/>
          <a:stretch/>
        </p:blipFill>
        <p:spPr>
          <a:xfrm>
            <a:off x="2071800" y="2571840"/>
            <a:ext cx="583236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Group 113"/>
          <p:cNvGrpSpPr/>
          <p:nvPr/>
        </p:nvGrpSpPr>
        <p:grpSpPr>
          <a:xfrm>
            <a:off x="3071880" y="1143000"/>
            <a:ext cx="3499560" cy="4428360"/>
            <a:chOff x="3071880" y="1143000"/>
            <a:chExt cx="3499560" cy="4428360"/>
          </a:xfrm>
        </p:grpSpPr>
        <p:pic>
          <p:nvPicPr>
            <p:cNvPr id="297" name="Picture 111" descr="professor4"/>
            <p:cNvPicPr/>
            <p:nvPr/>
          </p:nvPicPr>
          <p:blipFill>
            <a:blip r:embed="rId1"/>
            <a:stretch/>
          </p:blipFill>
          <p:spPr>
            <a:xfrm>
              <a:off x="3071880" y="1748880"/>
              <a:ext cx="3316680" cy="38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WordArt 112"/>
            <p:cNvSpPr txBox="1"/>
            <p:nvPr/>
          </p:nvSpPr>
          <p:spPr>
            <a:xfrm>
              <a:off x="3387600" y="1143000"/>
              <a:ext cx="3183840" cy="81972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99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8101080" y="6215040"/>
            <a:ext cx="1042920" cy="642960"/>
          </a:xfrm>
          <a:custGeom>
            <a:avLst/>
            <a:gdLst>
              <a:gd name="textAreaLeft" fmla="*/ 41400 w 1042920"/>
              <a:gd name="textAreaRight" fmla="*/ 1001520 w 1042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0508" y="7493"/>
                </a:moveTo>
                <a:lnTo>
                  <a:pt x="14016" y="7493"/>
                </a:lnTo>
                <a:lnTo>
                  <a:pt x="14016" y="12828"/>
                </a:lnTo>
                <a:cubicBezTo>
                  <a:pt x="14016" y="13751"/>
                  <a:pt x="14816" y="14482"/>
                  <a:pt x="15852" y="14482"/>
                </a:cubicBezTo>
                <a:lnTo>
                  <a:pt x="17514" y="14482"/>
                </a:lnTo>
                <a:cubicBezTo>
                  <a:pt x="18550" y="14482"/>
                  <a:pt x="19351" y="13751"/>
                  <a:pt x="19351" y="12828"/>
                </a:cubicBezTo>
                <a:lnTo>
                  <a:pt x="19351" y="7493"/>
                </a:lnTo>
                <a:lnTo>
                  <a:pt x="17514" y="7493"/>
                </a:lnTo>
                <a:lnTo>
                  <a:pt x="21022" y="3985"/>
                </a:lnTo>
                <a:lnTo>
                  <a:pt x="24695" y="7493"/>
                </a:lnTo>
                <a:lnTo>
                  <a:pt x="22859" y="7493"/>
                </a:lnTo>
                <a:lnTo>
                  <a:pt x="22859" y="12828"/>
                </a:lnTo>
                <a:cubicBezTo>
                  <a:pt x="22859" y="15596"/>
                  <a:pt x="20282" y="18155"/>
                  <a:pt x="17514" y="18155"/>
                </a:cubicBezTo>
                <a:lnTo>
                  <a:pt x="15852" y="18155"/>
                </a:lnTo>
                <a:cubicBezTo>
                  <a:pt x="13084" y="18155"/>
                  <a:pt x="10508" y="15596"/>
                  <a:pt x="10508" y="12828"/>
                </a:cubicBez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1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3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Прямоугольник 2" descr=""/>
          <p:cNvPicPr/>
          <p:nvPr/>
        </p:nvPicPr>
        <p:blipFill>
          <a:blip r:embed="rId1"/>
          <a:stretch/>
        </p:blipFill>
        <p:spPr>
          <a:xfrm>
            <a:off x="1189080" y="1871640"/>
            <a:ext cx="6145200" cy="1236600"/>
          </a:xfrm>
          <a:prstGeom prst="rect">
            <a:avLst/>
          </a:prstGeom>
          <a:ln w="0">
            <a:noFill/>
          </a:ln>
        </p:spPr>
      </p:pic>
      <p:pic>
        <p:nvPicPr>
          <p:cNvPr id="301" name="Прямоугольник 3" descr=""/>
          <p:cNvPicPr/>
          <p:nvPr/>
        </p:nvPicPr>
        <p:blipFill>
          <a:blip r:embed="rId2"/>
          <a:stretch/>
        </p:blipFill>
        <p:spPr>
          <a:xfrm>
            <a:off x="969840" y="3790800"/>
            <a:ext cx="678348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Прямоугольник 1" descr=""/>
          <p:cNvPicPr/>
          <p:nvPr/>
        </p:nvPicPr>
        <p:blipFill>
          <a:blip r:embed="rId1"/>
          <a:stretch/>
        </p:blipFill>
        <p:spPr>
          <a:xfrm>
            <a:off x="2292480" y="2000160"/>
            <a:ext cx="2773080" cy="1333440"/>
          </a:xfrm>
          <a:prstGeom prst="rect">
            <a:avLst/>
          </a:prstGeom>
          <a:ln w="0">
            <a:noFill/>
          </a:ln>
        </p:spPr>
      </p:pic>
      <p:pic>
        <p:nvPicPr>
          <p:cNvPr id="224" name="Прямоугольник 2" descr=""/>
          <p:cNvPicPr/>
          <p:nvPr/>
        </p:nvPicPr>
        <p:blipFill>
          <a:blip r:embed="rId2"/>
          <a:stretch/>
        </p:blipFill>
        <p:spPr>
          <a:xfrm>
            <a:off x="2359080" y="3286080"/>
            <a:ext cx="2232000" cy="144468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ая соединительная линия 4"/>
          <p:cNvSpPr/>
          <p:nvPr/>
        </p:nvSpPr>
        <p:spPr>
          <a:xfrm>
            <a:off x="3857760" y="3357720"/>
            <a:ext cx="1071360" cy="1440"/>
          </a:xfrm>
          <a:prstGeom prst="line">
            <a:avLst/>
          </a:prstGeom>
          <a:ln w="316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ая соединительная линия 5"/>
          <p:cNvSpPr/>
          <p:nvPr/>
        </p:nvSpPr>
        <p:spPr>
          <a:xfrm>
            <a:off x="3857760" y="4714920"/>
            <a:ext cx="1071360" cy="1440"/>
          </a:xfrm>
          <a:prstGeom prst="line">
            <a:avLst/>
          </a:prstGeom>
          <a:ln w="31680">
            <a:solidFill>
              <a:srgbClr val="de6c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Прямоугольник 6" descr=""/>
          <p:cNvPicPr/>
          <p:nvPr/>
        </p:nvPicPr>
        <p:blipFill>
          <a:blip r:embed="rId3"/>
          <a:stretch/>
        </p:blipFill>
        <p:spPr>
          <a:xfrm>
            <a:off x="2712960" y="1359000"/>
            <a:ext cx="542880" cy="1012680"/>
          </a:xfrm>
          <a:prstGeom prst="rect">
            <a:avLst/>
          </a:prstGeom>
          <a:ln w="0">
            <a:noFill/>
          </a:ln>
        </p:spPr>
      </p:pic>
      <p:pic>
        <p:nvPicPr>
          <p:cNvPr id="228" name="Прямоугольник 7" descr=""/>
          <p:cNvPicPr/>
          <p:nvPr/>
        </p:nvPicPr>
        <p:blipFill>
          <a:blip r:embed="rId4"/>
          <a:stretch/>
        </p:blipFill>
        <p:spPr>
          <a:xfrm>
            <a:off x="5931000" y="1859040"/>
            <a:ext cx="658800" cy="132228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8" descr=""/>
          <p:cNvPicPr/>
          <p:nvPr/>
        </p:nvPicPr>
        <p:blipFill>
          <a:blip r:embed="rId5"/>
          <a:stretch/>
        </p:blipFill>
        <p:spPr>
          <a:xfrm>
            <a:off x="1139760" y="4572000"/>
            <a:ext cx="615960" cy="1620720"/>
          </a:xfrm>
          <a:prstGeom prst="rect">
            <a:avLst/>
          </a:prstGeom>
          <a:ln w="0">
            <a:noFill/>
          </a:ln>
        </p:spPr>
      </p:pic>
      <p:pic>
        <p:nvPicPr>
          <p:cNvPr id="230" name="Прямоугольник 9" descr=""/>
          <p:cNvPicPr/>
          <p:nvPr/>
        </p:nvPicPr>
        <p:blipFill>
          <a:blip r:embed="rId6"/>
          <a:stretch/>
        </p:blipFill>
        <p:spPr>
          <a:xfrm>
            <a:off x="4498920" y="5211720"/>
            <a:ext cx="663480" cy="1328760"/>
          </a:xfrm>
          <a:prstGeom prst="rect">
            <a:avLst/>
          </a:prstGeom>
          <a:ln w="0">
            <a:noFill/>
          </a:ln>
        </p:spPr>
      </p:pic>
      <p:pic>
        <p:nvPicPr>
          <p:cNvPr id="231" name="Прямоугольник 10" descr=""/>
          <p:cNvPicPr/>
          <p:nvPr/>
        </p:nvPicPr>
        <p:blipFill>
          <a:blip r:embed="rId7"/>
          <a:stretch/>
        </p:blipFill>
        <p:spPr>
          <a:xfrm>
            <a:off x="5784840" y="3498840"/>
            <a:ext cx="665280" cy="1322280"/>
          </a:xfrm>
          <a:prstGeom prst="rect">
            <a:avLst/>
          </a:prstGeom>
          <a:ln w="0">
            <a:noFill/>
          </a:ln>
        </p:spPr>
      </p:pic>
      <p:pic>
        <p:nvPicPr>
          <p:cNvPr id="232" name="Прямоугольник 11" descr=""/>
          <p:cNvPicPr/>
          <p:nvPr/>
        </p:nvPicPr>
        <p:blipFill>
          <a:blip r:embed="rId8"/>
          <a:stretch/>
        </p:blipFill>
        <p:spPr>
          <a:xfrm>
            <a:off x="1000080" y="2359080"/>
            <a:ext cx="657360" cy="1322280"/>
          </a:xfrm>
          <a:prstGeom prst="rect">
            <a:avLst/>
          </a:prstGeom>
          <a:ln w="0">
            <a:noFill/>
          </a:ln>
        </p:spPr>
      </p:pic>
      <p:pic>
        <p:nvPicPr>
          <p:cNvPr id="233" name="Прямоугольник 12" descr=""/>
          <p:cNvPicPr/>
          <p:nvPr/>
        </p:nvPicPr>
        <p:blipFill>
          <a:blip r:embed="rId9"/>
          <a:stretch/>
        </p:blipFill>
        <p:spPr>
          <a:xfrm>
            <a:off x="0" y="212760"/>
            <a:ext cx="9333000" cy="12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Прямоугольник 1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8370720" cy="952560"/>
          </a:xfrm>
          <a:prstGeom prst="rect">
            <a:avLst/>
          </a:prstGeom>
          <a:ln w="0">
            <a:noFill/>
          </a:ln>
        </p:spPr>
      </p:pic>
      <p:pic>
        <p:nvPicPr>
          <p:cNvPr id="235" name="Прямоугольник 2" descr=""/>
          <p:cNvPicPr/>
          <p:nvPr/>
        </p:nvPicPr>
        <p:blipFill>
          <a:blip r:embed="rId2"/>
          <a:stretch/>
        </p:blipFill>
        <p:spPr>
          <a:xfrm>
            <a:off x="615960" y="3932280"/>
            <a:ext cx="8089920" cy="1073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D:\анимашки\qwe.gif"/>
          <p:cNvPicPr/>
          <p:nvPr/>
        </p:nvPicPr>
        <p:blipFill>
          <a:blip r:embed="rId3"/>
          <a:stretch/>
        </p:blipFill>
        <p:spPr>
          <a:xfrm>
            <a:off x="3714840" y="492912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D:\анимашки\Рисунок1.gif"/>
          <p:cNvPicPr/>
          <p:nvPr/>
        </p:nvPicPr>
        <p:blipFill>
          <a:blip r:embed="rId4"/>
          <a:stretch/>
        </p:blipFill>
        <p:spPr>
          <a:xfrm>
            <a:off x="2857680" y="2357280"/>
            <a:ext cx="3286080" cy="1571760"/>
          </a:xfrm>
          <a:prstGeom prst="rect">
            <a:avLst/>
          </a:prstGeom>
          <a:ln w="0">
            <a:noFill/>
          </a:ln>
        </p:spPr>
      </p:pic>
      <p:pic>
        <p:nvPicPr>
          <p:cNvPr id="238" name="Прямоугольник 5" descr=""/>
          <p:cNvPicPr/>
          <p:nvPr/>
        </p:nvPicPr>
        <p:blipFill>
          <a:blip r:embed="rId5"/>
          <a:stretch/>
        </p:blipFill>
        <p:spPr>
          <a:xfrm>
            <a:off x="4211640" y="1073160"/>
            <a:ext cx="81756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WordArt 4" descr=""/>
          <p:cNvPicPr/>
          <p:nvPr/>
        </p:nvPicPr>
        <p:blipFill>
          <a:blip r:embed="rId1"/>
          <a:stretch/>
        </p:blipFill>
        <p:spPr>
          <a:xfrm>
            <a:off x="907920" y="195120"/>
            <a:ext cx="3329280" cy="1219320"/>
          </a:xfrm>
          <a:prstGeom prst="rect">
            <a:avLst/>
          </a:prstGeom>
          <a:ln w="0">
            <a:noFill/>
          </a:ln>
        </p:spPr>
      </p:pic>
      <p:pic>
        <p:nvPicPr>
          <p:cNvPr id="240" name="WordArt 7" descr=""/>
          <p:cNvPicPr/>
          <p:nvPr/>
        </p:nvPicPr>
        <p:blipFill>
          <a:blip r:embed="rId2"/>
          <a:stretch/>
        </p:blipFill>
        <p:spPr>
          <a:xfrm>
            <a:off x="1122480" y="1835280"/>
            <a:ext cx="3327120" cy="1218960"/>
          </a:xfrm>
          <a:prstGeom prst="rect">
            <a:avLst/>
          </a:prstGeom>
          <a:ln w="0">
            <a:noFill/>
          </a:ln>
        </p:spPr>
      </p:pic>
      <p:pic>
        <p:nvPicPr>
          <p:cNvPr id="241" name="WordArt 9" descr=""/>
          <p:cNvPicPr/>
          <p:nvPr/>
        </p:nvPicPr>
        <p:blipFill>
          <a:blip r:embed="rId3"/>
          <a:stretch/>
        </p:blipFill>
        <p:spPr>
          <a:xfrm>
            <a:off x="957240" y="3865680"/>
            <a:ext cx="3328920" cy="1218960"/>
          </a:xfrm>
          <a:prstGeom prst="rect">
            <a:avLst/>
          </a:prstGeom>
          <a:ln w="0">
            <a:noFill/>
          </a:ln>
        </p:spPr>
      </p:pic>
      <p:pic>
        <p:nvPicPr>
          <p:cNvPr id="242" name="WordArt 11" descr=""/>
          <p:cNvPicPr/>
          <p:nvPr/>
        </p:nvPicPr>
        <p:blipFill>
          <a:blip r:embed="rId4"/>
          <a:stretch/>
        </p:blipFill>
        <p:spPr>
          <a:xfrm>
            <a:off x="957240" y="5467320"/>
            <a:ext cx="3328920" cy="1214640"/>
          </a:xfrm>
          <a:prstGeom prst="rect">
            <a:avLst/>
          </a:prstGeom>
          <a:ln w="0">
            <a:noFill/>
          </a:ln>
        </p:spPr>
      </p:pic>
      <p:sp>
        <p:nvSpPr>
          <p:cNvPr id="243" name="WordArt 5"/>
          <p:cNvSpPr txBox="1"/>
          <p:nvPr/>
        </p:nvSpPr>
        <p:spPr>
          <a:xfrm>
            <a:off x="3724200" y="290520"/>
            <a:ext cx="681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c66bb"/>
                </a:solidFill>
                <a:latin typeface="Comic Sans MS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c66bb"/>
              </a:solidFill>
              <a:latin typeface="Comic Sans MS"/>
              <a:ea typeface="Comic Sans MS"/>
            </a:endParaRPr>
          </a:p>
        </p:txBody>
      </p:sp>
      <p:sp>
        <p:nvSpPr>
          <p:cNvPr id="244" name="WordArt 5"/>
          <p:cNvSpPr txBox="1"/>
          <p:nvPr/>
        </p:nvSpPr>
        <p:spPr>
          <a:xfrm>
            <a:off x="3786120" y="5214960"/>
            <a:ext cx="68112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c66bb"/>
                </a:solidFill>
                <a:latin typeface="Comic Sans MS"/>
              </a:rPr>
              <a:t>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c66bb"/>
              </a:solidFill>
              <a:latin typeface="Comic Sans MS"/>
              <a:ea typeface="Comic Sans MS"/>
            </a:endParaRPr>
          </a:p>
        </p:txBody>
      </p:sp>
      <p:sp>
        <p:nvSpPr>
          <p:cNvPr id="245" name="WordArt 14"/>
          <p:cNvSpPr txBox="1"/>
          <p:nvPr/>
        </p:nvSpPr>
        <p:spPr>
          <a:xfrm>
            <a:off x="4643280" y="500040"/>
            <a:ext cx="152424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490c5"/>
                </a:solidFill>
                <a:latin typeface="Comic Sans MS"/>
              </a:rPr>
              <a:t>(она)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490c5"/>
              </a:solidFill>
              <a:latin typeface="Comic Sans MS"/>
              <a:ea typeface="Comic Sans MS"/>
            </a:endParaRPr>
          </a:p>
        </p:txBody>
      </p:sp>
      <p:sp>
        <p:nvSpPr>
          <p:cNvPr id="246" name="WordArt 14"/>
          <p:cNvSpPr txBox="1"/>
          <p:nvPr/>
        </p:nvSpPr>
        <p:spPr>
          <a:xfrm>
            <a:off x="4714920" y="5572080"/>
            <a:ext cx="15238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490c5"/>
                </a:solidFill>
                <a:latin typeface="Comic Sans MS"/>
              </a:rPr>
              <a:t>(она)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490c5"/>
              </a:solidFill>
              <a:latin typeface="Comic Sans MS"/>
              <a:ea typeface="Comic Sans MS"/>
            </a:endParaRPr>
          </a:p>
        </p:txBody>
      </p:sp>
      <p:sp>
        <p:nvSpPr>
          <p:cNvPr id="247" name="WordArt 16"/>
          <p:cNvSpPr txBox="1"/>
          <p:nvPr/>
        </p:nvSpPr>
        <p:spPr>
          <a:xfrm>
            <a:off x="4572000" y="2071800"/>
            <a:ext cx="15238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490c5"/>
                </a:solidFill>
                <a:latin typeface="Comic Sans MS"/>
              </a:rPr>
              <a:t>(он)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490c5"/>
              </a:solidFill>
              <a:latin typeface="Comic Sans MS"/>
              <a:ea typeface="Comic Sans MS"/>
            </a:endParaRPr>
          </a:p>
        </p:txBody>
      </p:sp>
      <p:sp>
        <p:nvSpPr>
          <p:cNvPr id="248" name="WordArt 16"/>
          <p:cNvSpPr txBox="1"/>
          <p:nvPr/>
        </p:nvSpPr>
        <p:spPr>
          <a:xfrm>
            <a:off x="4572000" y="4000680"/>
            <a:ext cx="152388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d490c5"/>
                </a:solidFill>
                <a:latin typeface="Comic Sans MS"/>
              </a:rPr>
              <a:t>(он)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d490c5"/>
              </a:solidFill>
              <a:latin typeface="Comic Sans MS"/>
              <a:ea typeface="Comic Sans MS"/>
            </a:endParaRPr>
          </a:p>
        </p:txBody>
      </p:sp>
      <p:pic>
        <p:nvPicPr>
          <p:cNvPr id="249" name="Picture 3" descr="D:\анимашки\Рисунок1.gif"/>
          <p:cNvPicPr/>
          <p:nvPr/>
        </p:nvPicPr>
        <p:blipFill>
          <a:blip r:embed="rId5"/>
          <a:stretch/>
        </p:blipFill>
        <p:spPr>
          <a:xfrm>
            <a:off x="6286680" y="214200"/>
            <a:ext cx="2428560" cy="11620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D:\анимашки\Рисунок1.gif"/>
          <p:cNvPicPr/>
          <p:nvPr/>
        </p:nvPicPr>
        <p:blipFill>
          <a:blip r:embed="rId6"/>
          <a:stretch/>
        </p:blipFill>
        <p:spPr>
          <a:xfrm>
            <a:off x="6429240" y="5072040"/>
            <a:ext cx="2500560" cy="11955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D:\анимашки\qwe.gif"/>
          <p:cNvPicPr/>
          <p:nvPr/>
        </p:nvPicPr>
        <p:blipFill>
          <a:blip r:embed="rId7"/>
          <a:stretch/>
        </p:blipFill>
        <p:spPr>
          <a:xfrm>
            <a:off x="6643800" y="171468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" descr="D:\анимашки\qwe.gif"/>
          <p:cNvPicPr/>
          <p:nvPr/>
        </p:nvPicPr>
        <p:blipFill>
          <a:blip r:embed="rId8"/>
          <a:stretch/>
        </p:blipFill>
        <p:spPr>
          <a:xfrm>
            <a:off x="7000920" y="328608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WordArt 5"/>
          <p:cNvSpPr txBox="1"/>
          <p:nvPr/>
        </p:nvSpPr>
        <p:spPr>
          <a:xfrm>
            <a:off x="990720" y="2133720"/>
            <a:ext cx="510516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6699"/>
                </a:solidFill>
                <a:latin typeface="Comic Sans MS"/>
              </a:rPr>
              <a:t>печ...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6699"/>
              </a:solidFill>
              <a:latin typeface="Comic Sans MS"/>
              <a:ea typeface="Comic Sans MS"/>
            </a:endParaRPr>
          </a:p>
        </p:txBody>
      </p:sp>
      <p:sp>
        <p:nvSpPr>
          <p:cNvPr id="254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55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56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2286000"/>
            <a:ext cx="5656320" cy="2139840"/>
          </a:xfrm>
          <a:prstGeom prst="rect">
            <a:avLst/>
          </a:prstGeom>
          <a:ln w="0">
            <a:noFill/>
          </a:ln>
        </p:spPr>
      </p:pic>
      <p:sp>
        <p:nvSpPr>
          <p:cNvPr id="259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60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61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Прямоугольник 2" descr=""/>
          <p:cNvPicPr/>
          <p:nvPr/>
        </p:nvPicPr>
        <p:blipFill>
          <a:blip r:embed="rId1"/>
          <a:stretch/>
        </p:blipFill>
        <p:spPr>
          <a:xfrm>
            <a:off x="573120" y="2286000"/>
            <a:ext cx="5535720" cy="2139840"/>
          </a:xfrm>
          <a:prstGeom prst="rect">
            <a:avLst/>
          </a:prstGeom>
          <a:ln w="0">
            <a:noFill/>
          </a:ln>
        </p:spPr>
      </p:pic>
      <p:sp>
        <p:nvSpPr>
          <p:cNvPr id="264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65" name="WordArt 20"/>
          <p:cNvSpPr txBox="1"/>
          <p:nvPr/>
        </p:nvSpPr>
        <p:spPr>
          <a:xfrm>
            <a:off x="6786720" y="400068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66" name="Line 25"/>
          <p:cNvSpPr/>
          <p:nvPr/>
        </p:nvSpPr>
        <p:spPr>
          <a:xfrm flipH="1">
            <a:off x="6214680" y="385776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3371760" cy="214632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70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71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Прямоугольник 1" descr=""/>
          <p:cNvPicPr/>
          <p:nvPr/>
        </p:nvPicPr>
        <p:blipFill>
          <a:blip r:embed="rId1"/>
          <a:stretch/>
        </p:blipFill>
        <p:spPr>
          <a:xfrm>
            <a:off x="1212840" y="2286000"/>
            <a:ext cx="3011400" cy="2133720"/>
          </a:xfrm>
          <a:prstGeom prst="rect">
            <a:avLst/>
          </a:prstGeom>
          <a:ln w="0">
            <a:noFill/>
          </a:ln>
        </p:spPr>
      </p:pic>
      <p:sp>
        <p:nvSpPr>
          <p:cNvPr id="274" name="WordArt 20"/>
          <p:cNvSpPr txBox="1"/>
          <p:nvPr/>
        </p:nvSpPr>
        <p:spPr>
          <a:xfrm>
            <a:off x="6400800" y="22860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75" name="WordArt 24"/>
          <p:cNvSpPr txBox="1"/>
          <p:nvPr/>
        </p:nvSpPr>
        <p:spPr>
          <a:xfrm>
            <a:off x="6400800" y="4419720"/>
            <a:ext cx="1752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Comic Sans MS"/>
              </a:rPr>
              <a:t>ь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Comic Sans MS"/>
              <a:ea typeface="Comic Sans MS"/>
            </a:endParaRPr>
          </a:p>
        </p:txBody>
      </p:sp>
      <p:sp>
        <p:nvSpPr>
          <p:cNvPr id="276" name="Line 25"/>
          <p:cNvSpPr/>
          <p:nvPr/>
        </p:nvSpPr>
        <p:spPr>
          <a:xfrm flipH="1">
            <a:off x="5866920" y="4343400"/>
            <a:ext cx="2514600" cy="220968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5:02:32Z</dcterms:created>
  <dc:creator>Киреев Дмитрий</dc:creator>
  <dc:description/>
  <dc:language>en-US</dc:language>
  <cp:lastModifiedBy>Пользователь Windows</cp:lastModifiedBy>
  <dcterms:modified xsi:type="dcterms:W3CDTF">2022-06-19T19:00:26Z</dcterms:modified>
  <cp:revision>8</cp:revision>
  <dc:subject/>
  <dc:title>Слайд 1</dc:title>
</cp:coreProperties>
</file>